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55E-830D-4796-8639-727BC6BA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5AF-9328-4473-B58B-2DB99D6E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E65-A2F1-4E9D-A6ED-6DAD00E2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E7A-2379-458E-9313-7C7FA0D4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662C-F49C-43D9-BCB9-D539A163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1B82-DA4D-4018-89F2-34C2C25A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7368-219E-4818-92F0-77734567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35F6-1E4C-4F29-8CC1-D53145D0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95AE-16C0-4885-8BC3-5E7D2180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EBA1-113B-4542-AD78-12EFB26B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7E4A-7D02-44AA-9902-BB014CE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05B-01AC-4DE8-9B9C-128F7C89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8F22-9AA5-4B8E-A645-9815E86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414D-5454-4BAA-9F4C-CD4B8CA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2B7D-85BA-416A-844E-6D468CC1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53AD-A614-427D-A7B3-00E1727A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6CEA-A4FF-4C26-B10D-51F9C819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34A-E05D-465B-A676-323EA278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398-FC26-4052-8E81-FE13FBD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0F5-6379-4DF1-A265-38727DC5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159-8878-4A98-BC03-38CA6F29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057-CFD7-458C-92A3-81B4936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791-2DAC-4F4E-A6A7-D48BE7F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EFF-5362-408C-8AB0-DAD678D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8CE-49E8-43FC-8940-57B1DFCFFB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8BA0-C595-418C-A599-716133900C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18T18:57:44Z</dcterms:modified>
  <cp:revision>4</cp:revision>
  <dc:subject/>
  <dc:title>Mon nom est: </dc:title>
</cp:coreProperties>
</file>